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  <p:sldId id="295" r:id="rId66"/>
    <p:sldId id="296" r:id="rId67"/>
    <p:sldId id="297" r:id="rId68"/>
    <p:sldId id="298" r:id="rId69"/>
    <p:sldId id="299" r:id="rId70"/>
    <p:sldId id="300" r:id="rId71"/>
    <p:sldId id="301" r:id="rId72"/>
    <p:sldId id="302" r:id="rId73"/>
    <p:sldId id="303" r:id="rId74"/>
    <p:sldId id="304" r:id="rId75"/>
    <p:sldId id="305" r:id="rId76"/>
    <p:sldId id="306" r:id="rId77"/>
    <p:sldId id="307" r:id="rId78"/>
    <p:sldId id="308" r:id="rId79"/>
    <p:sldId id="309" r:id="rId80"/>
    <p:sldId id="310" r:id="rId81"/>
    <p:sldId id="311" r:id="rId8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slide" Target="slides/slide40.xml"/><Relationship Id="rId67" Type="http://schemas.openxmlformats.org/officeDocument/2006/relationships/slide" Target="slides/slide41.xml"/><Relationship Id="rId68" Type="http://schemas.openxmlformats.org/officeDocument/2006/relationships/slide" Target="slides/slide42.xml"/><Relationship Id="rId69" Type="http://schemas.openxmlformats.org/officeDocument/2006/relationships/slide" Target="slides/slide43.xml"/><Relationship Id="rId70" Type="http://schemas.openxmlformats.org/officeDocument/2006/relationships/slide" Target="slides/slide44.xml"/><Relationship Id="rId71" Type="http://schemas.openxmlformats.org/officeDocument/2006/relationships/slide" Target="slides/slide45.xml"/><Relationship Id="rId72" Type="http://schemas.openxmlformats.org/officeDocument/2006/relationships/slide" Target="slides/slide46.xml"/><Relationship Id="rId73" Type="http://schemas.openxmlformats.org/officeDocument/2006/relationships/slide" Target="slides/slide47.xml"/><Relationship Id="rId74" Type="http://schemas.openxmlformats.org/officeDocument/2006/relationships/slide" Target="slides/slide48.xml"/><Relationship Id="rId75" Type="http://schemas.openxmlformats.org/officeDocument/2006/relationships/slide" Target="slides/slide49.xml"/><Relationship Id="rId76" Type="http://schemas.openxmlformats.org/officeDocument/2006/relationships/slide" Target="slides/slide50.xml"/><Relationship Id="rId77" Type="http://schemas.openxmlformats.org/officeDocument/2006/relationships/slide" Target="slides/slide51.xml"/><Relationship Id="rId78" Type="http://schemas.openxmlformats.org/officeDocument/2006/relationships/slide" Target="slides/slide52.xml"/><Relationship Id="rId79" Type="http://schemas.openxmlformats.org/officeDocument/2006/relationships/slide" Target="slides/slide53.xml"/><Relationship Id="rId80" Type="http://schemas.openxmlformats.org/officeDocument/2006/relationships/slide" Target="slides/slide54.xml"/><Relationship Id="rId81" Type="http://schemas.openxmlformats.org/officeDocument/2006/relationships/slide" Target="slides/slide55.xml"/><Relationship Id="rId82" Type="http://schemas.openxmlformats.org/officeDocument/2006/relationships/slide" Target="slides/slide56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 rules - capitaliz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dt" idx="6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ftr" idx="6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 type="sldNum" idx="6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B97AC-0799-495D-83E4-BE3504E43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Times New Roman"/>
              </a:rPr>
              <a:t>AP rules - capitaliza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DF019-4229-471C-A432-5878145F5DBA}" type="slidenum">
              <a:rPr b="0" lang="en-US" sz="13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3DA-3B06-4E15-B702-663B031B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EA3-7B2C-45FC-A002-E9FC703D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2B943-4DAC-41EC-A47A-00B97D69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C984C-E19A-4744-9297-C006EF4B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D9A92-C0BB-488A-BBCD-A2C4AF77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7F171-CCA7-43D1-A0A4-B7DCAEB7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CB9F4-F0EA-41B2-B061-E0C2A116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77F26-486F-4906-80DD-677E859B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9377F-818F-4D80-8047-C798B52D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A5ED8-236E-4CB6-98A2-F507655F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5C473-A8EC-4D09-AC9C-B331AA6E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A227F-EC82-4137-BCC8-11207F13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FF9-F021-49FB-8C8E-462999E4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49979-DD92-491F-A312-86FCA5A2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B305C-680B-4CDD-94B9-9C7588B5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69FFE-6038-41A5-BC30-B9F20FF5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E9703-57CC-4F9C-A90D-FE294D12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793C0-821E-4A65-B2F3-51DCC51F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84A82-D21C-4CCC-B63A-248DE734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08997-63EB-4CD6-8089-C9F90A91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03272-B2F4-4F96-806C-0ABA94B2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FAD2C-49A2-4E43-A9E4-09568EBA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15CAD-35BD-4C77-B17C-C31D96A3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4FE-4AA7-4FA1-B8C0-792702AB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33C85-6973-4940-A60F-91DA06D8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6C443-6B5D-461F-B685-45A2CC83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00F24-C9C9-4BDD-8654-49AC6204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F9B05-804B-4A45-8503-05404670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4AC7A-5E4E-4402-BF69-9DEE96FB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52552-DFF4-4EE6-960A-4B3A4A24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928B1-A0A3-4058-8031-616BA40F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54DC2-E4D4-49CB-BFBA-964C9E25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25E4B-20CF-4414-A2A9-7CD30B1E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BE012-4715-44D4-8541-F887FEAB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1E792-63BA-47E0-BE22-B854B563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43C9B-E18E-4931-ACE4-132BA774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66C8D-CE57-4C77-B455-3508D657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AA529-70AE-48E5-BCC1-B8C0A429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05D34-C48F-4AA4-8222-045FDF2A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71CD3-8731-4CC2-A0CE-043C9D55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BA744-AFCC-47C2-A958-041B5513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2EB15-D2D5-4E18-A1CB-888BB962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4A2C5-F4A8-434D-9A0C-0614970E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F2FEC-F051-48CF-BA36-CC345A49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4F74B-5F40-45D6-A609-556FEBC8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113DB-778A-465B-B573-B7CAFD3C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75330-2EB6-4A61-A657-E84E9E5C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380D1-6596-411A-AEBC-4C825AFD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EBF99-E779-454C-A88C-06956AA7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0714A-39A6-4CEA-9539-C88DF12A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BC0D5-A431-4392-8F09-94A3EA1A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200E6-E6ED-413C-9C8A-40DABDFD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7C4C2-06D9-4E78-A938-C8FA35F5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30AF9-2D17-4E71-8887-BA3A72BD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893F7-10D4-4354-96CC-B510D580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E5DD5-8B4C-42A6-9CC6-414F0F0D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12851-9234-4C6C-90CB-10E1B36D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6CDA8-5FF2-41E4-9AE6-E317E8D8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C5333-9013-43C7-A175-8D8C8960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88CAC-4C52-4C04-8A42-62850E6B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513FD-78FE-4652-8CDE-5D3256FB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5D1D8-5B36-410B-B87F-34A68A9F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871B3-29DF-4035-98F6-52C91CD3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B64AF-F633-4E02-A124-B6973602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43D7A-C248-432C-AF05-FFCEA731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C0619-7A0F-48E5-8D7B-0C0C29E0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C9B42-72D1-4829-B944-9C558F8C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7A294-1341-49FF-B448-77878BED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4963E-9E24-4C67-AC46-EC6A905F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2A58A-587C-4803-BEBF-3C7AD4BC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774E9-29FE-4131-A8A0-0FF3A2E3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14689-2FAE-4F5D-8309-4C96BFAD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8F935-0FDD-4779-AF83-78D2981A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551A5-CCE1-4D3F-BFD5-18EE9FE4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0AF1A-29CC-4B45-A881-8292D8F1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848A7-93F6-4BBC-B80C-A285A914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9A258-4781-48ED-A5A7-68E501DC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7BB38-EA44-49D4-9036-27A296BF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FE926-D45F-4F54-A4BB-554949E1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28A0F-850F-4E05-A488-DA74AA0E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04C78-11DF-4694-838C-8EADE4D0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0FA1F-0DCB-419A-9221-62801FCA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F10C3-8702-4EF8-A13E-8C01F4F6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75EA4-A5FD-41E0-826B-87547818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A115F-B861-4201-BB3B-8C44C934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2BAF5-7736-4685-8642-78616733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405569-BBF1-471C-993F-7315A201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84BA6-398B-44F1-9647-AADEB739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6D2BD-DA98-47A8-AF08-174A4710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B978A-24BA-491C-9AD1-C21E7DD0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B131C-8C34-4EC5-8B98-EBE8F028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310D54-DD44-4931-86FC-F1C0F928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08DD8-F019-420C-A7B3-CD7C9823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EDA125-3F25-4D4D-A91F-899DC565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2207D-65B3-4568-8FB2-078F6000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746F2-8078-43CE-8D7C-A8873143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D6886-44DB-4A5B-B138-306CEBF4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A8026-46BA-410E-BC9E-7B153D5F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A00ACA-E738-4033-B07B-94E60D59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737FD-9E9F-427C-B4AD-293245B0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1578D2-3AB5-4D9B-8852-DCC6B658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071D0E-C8A2-45F0-B893-F27E69FC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8D884A-4748-4B85-9F59-A72633B7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6FC3C5-36AD-4989-85B9-FCFC76EC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D38-02AE-44E4-8F1F-C7201CDE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0A7A1-D795-4298-A653-6ECCC854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653293-3D2A-411C-ADC9-D0FA83A5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2070D-85D2-460B-A839-5FD7F762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5A12A5-D633-4512-A616-80955773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23784-A06E-4BFB-87EE-EA200269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BAA8B-CC2A-4F77-BA11-91852620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A25457-B10D-4C45-8043-02CE5331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46ED05-2B3D-4ED9-8A95-81A2DE88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807F01-118E-4001-AED8-3CCCE949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C57949-CBF3-4F9F-9695-33BA95A4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0088E-1E30-420B-A770-1A1BC4AD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9E357D-5400-4C8E-9C23-1D2D2286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6FC95-0DF4-4318-8ADF-E5B98C6C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7FD516-3FA3-42C3-B900-D5219D0B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A15137-D063-4675-901B-07E8608A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DF3058-1529-4098-83AE-C72EC97C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B0F976-3750-4CF5-8979-BE561CD5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2A08BC-175E-4F07-8267-AEAB6590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0C6005-850D-4D67-B96C-179B007D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0437E8-6598-4E30-BACB-16F7CB26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D4C0D-46CD-409F-BF15-476C9554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8D12C-8F8C-4411-9681-5AD2C3FA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E13031-86CE-40F1-B9E7-4B14550B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692FC-F33D-4C08-AFCE-DA05C227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2D3463-910A-4095-B7F1-CDBB27EE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035133-7CAB-456C-A55E-A190EB15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51B0E6-8548-4262-BFBB-F971D40E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82FDE7-044B-409C-984A-66F63A85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DD8D55-2D86-4696-B21D-915E8DA8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7045EA-AD8A-4AFC-A562-D25B4344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B95235-2BF6-4924-BC3F-701AB12D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00EF7C-E4EE-4341-8D54-6CA5D1E1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EB610B-38F9-4A17-B65A-51A0205F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525972-9E3D-487C-97D7-BE357FC6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909CF6-E0B5-403E-80A9-1E40BAFE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776A6-2282-4E69-8E6D-3E3E232E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69AFD0-74EB-4BA6-A542-E16F6C33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18ED1E-4C68-4313-A0A4-5DF464E9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096C7C-19B2-482F-9F35-359C99F6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A0A3F-CEE4-4EF2-8919-79730E65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D855D2-3E38-4242-8858-A42AE710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8B81FC-3178-43C5-84D8-DF7700EC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E3C4B0-8A84-4A97-A363-78499AB0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2EFD6D-8F4D-4383-8411-36E9F657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969A6F-9464-40DD-B7F4-E7026476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7A82C2-8328-4DBC-A202-1D9DCB48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619C64-CBA7-47E6-AE73-F911B55E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24689C-9D0D-4DEB-BB96-6C71F84D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AB6E1A-C358-4B39-8FC8-21097B0A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F36DB9-35A9-447F-958E-7B7A340B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F1A621-80C6-43F7-B75D-5BE2A43C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81432B-53E1-4A51-B5FC-2B80AD87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99E99B-C31C-40FE-8CF5-6605D34E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CE81DF-E0F8-4A76-92E7-E054CCAC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B376F6-6296-42D4-9F2F-A7CB647E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9E882E-16F8-4750-9397-767386CC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D297BB-D310-48F7-90E7-41253BBA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077D02-AE59-4957-AA73-CB7EAD6E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3990EB-4A42-47E7-B81F-DBF94F2F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BDBE61-5242-4D67-B076-A518AC95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0925CF-6EA4-4EED-9C3B-16CF5A5C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36B4B1-B1C4-4327-8DB5-C78DC51D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4C47E3-04DB-4B45-B376-E3F2E6E0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1B65C6-C5E6-4727-893B-E1644A9E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CED53E-9574-4DE7-87E2-DBF12042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244DDA-ACA6-4EE4-9B15-361E5208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12A02F-68E8-4B73-9E1F-D0A493D3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2D3F86-A54B-4D71-A6DE-647BA52A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D89E6A-638F-414F-94B3-46876662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189BA6-B9A0-4862-98D7-0C306FFE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63D638-1599-486F-BE53-925ABF17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328BC4-85A4-4BCB-9BCA-4E33576D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430B3C-8E26-4712-A7EF-DBCC2990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EDDC73-5B4F-4106-A580-033C79E9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C2D7F6-6C98-456A-8BB3-31AD435A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7F627E-93C3-458C-9D30-FD86543F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F6938B-1769-4903-982B-E3C01620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D85752-3D7D-4EB9-AF07-B5B43C46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0562F0-3B4C-4CD1-B179-403F7B4A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56F1A7-6496-48BB-A56A-4EC4E914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16A294-E46C-4B48-AA4D-76DAD698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15AC28-364D-4B96-ABAA-E0012395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64F138-2CCE-4925-B9C4-CC5D92C5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7FB7A1-A7F5-4B2B-9B26-7C928B61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73B385-DF1F-4EA0-8F19-BA08CFD1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CBF8C8-0C23-498B-B4A8-FE3B01C2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D4E480-7BA2-435E-9DA5-093BC448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826DB4-05F6-4DA0-9EBB-2F4C1108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6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6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63F91D-0901-4C01-ADE2-E660F2F4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7C3-F569-407B-A494-D58D7BEF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A39B-886B-4C42-918F-8D171ABB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94F7-8E80-424E-B9CF-E5824B49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0E8A-739B-497B-911C-6C7FD8BE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865-307C-46F4-9D24-E0726D4F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E63C-8775-4426-9B6D-0A547BA7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5B24-8732-43DC-BD0E-AAF2C1A3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FBB6-C54F-485F-B162-EAE76AB0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05C6-9346-4883-A240-86941C74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6C4F-3B6E-4385-B034-085E0357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7FD8-3FB2-4F31-9681-7ACA20ED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2783-CFF5-454E-8814-5CACE407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D5A4-40CA-486B-9D4F-DB1F01A7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EB09-704A-45A4-AF62-0BA2AE89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57136-C8E0-4F8E-B3A2-E6826350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DA3-8278-4D69-ABB4-6796869C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F13F-DC35-4036-B382-CBE469A7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B668E-838E-4436-9C02-7C45A5C1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F3B62-D349-432E-8CBE-B959ABE3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1F03-F9E0-4716-8612-9C48F628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23FD6-5CA5-4AB4-A77D-27A8A31F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DF973-01BC-44F1-93F7-2FCA0A29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20666-C717-4939-B9BD-2DBEA003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6F3AD-8B00-4289-A717-4A657804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F072-FAF5-4122-BE2C-74248CF2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CD1B-23ED-48A5-8D5B-1C99ACE6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685-15FE-4657-82F2-21878754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773FC-B2C3-4FF6-BADE-AF837E82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83C48-926D-402D-BA52-016D1F0B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BFFC0-0A08-494A-B64D-AFC22541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F5418-A7B0-4B81-946B-54F7CD60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A8779-EBBA-46F7-90BB-C90CEB2B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0752B-EE44-4B6E-83EA-7EC009BE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66DD3-8CD3-4E94-B1C2-AA7852B2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9D743-53BA-4258-BC5A-99CBEE58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18C38-F134-45F9-9AA4-21EAC191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C0A30-10D0-4DBC-8221-4DA6DE98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AF3-27A0-4395-9EB7-75AEA3CF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33F73-2AC7-4AF2-88EC-1FECC0D6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A0420-5AA5-4E16-BB57-D886B022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3EC47-DD96-4125-B989-891EE6C4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879A9-BB8F-4CC2-AB5C-9C874AA0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09312-55B3-4BFE-A2BB-75B819EA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B9D5C-0BC3-4D50-A885-03B6CC96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6F53B-965E-4734-914E-F13273F3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30941-192C-41E7-B06B-F8EFCD01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C295A-6A74-46FE-8522-754B89CC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0BB5C-83BD-419C-A99A-5D342EF7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DDC-918B-414B-81BF-DB61CFC8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3EB7A-51BB-4431-A841-162D8002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3C8D1-4DAE-4496-A074-619EA4F4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7ABD0-18F1-481C-83C1-AEB7E2DF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16501-EF36-4D29-8756-CF55ED79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9DD71-88EE-4037-B9B2-FB9F8A17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702C9-9CFB-41EE-9778-01BE4464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3135E-F6E8-4E77-87AB-FB66A98C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903C0-DDF0-4E99-A288-2DB77495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78978-5C3C-4729-B4DA-B65EF5BC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3EABE-3275-4DCE-B603-7C07EBC5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4D3-2E85-4481-9385-6E27D3D3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4D380-9D06-4E0A-AC23-B3D33A28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755E3-A4E0-4670-8052-1FD01C7D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08470-F2E6-4B99-97F4-F8A0844F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66060-32C5-469D-B471-7DB7388E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348D9-8F89-4EDA-9F27-410A7AA9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EEFAD-8EA1-47F2-88F6-415CB059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281B7-EFCC-4CB1-A91E-8F81A013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3778C-AF51-4264-BC54-E8A8B5AD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B872A-0110-4D0C-8E35-5F19C9E6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E5A09-6E85-4F95-890E-299D1D83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6C4A-73D8-492B-B67D-E87573895D3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6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6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dt" idx="22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23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4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86A4-FDC8-417F-A4D9-9F2BE7C13F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51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517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1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dt" idx="25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ftr" idx="26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Num" idx="27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01B5-9535-41E9-A542-E5E269AA47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567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568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7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dt" idx="28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ftr" idx="29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Num" idx="30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10FC-2650-4D0F-9200-023CC76838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618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619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2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dt" idx="3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ftr" idx="3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3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5069-617D-4553-839A-41E666FB1B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669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670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7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dt" idx="3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ftr" idx="3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3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3708-412C-407B-83D6-E06243AAAF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72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72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2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2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2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2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2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3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3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3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3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4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4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5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5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dt" idx="37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ftr" idx="38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sldNum" idx="39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0A8E-987F-444D-83D3-C124BE6467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79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79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9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9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0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0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0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0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0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1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1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1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1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2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2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dt" idx="40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ftr" idx="41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Num" idx="42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BABE-0CB9-4184-B327-9E2B59257E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87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87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87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87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7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7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8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8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8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8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9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9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0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0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dt" idx="43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ftr" idx="44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45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06BF-8FD3-45D4-93C7-2B033871D2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94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94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4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4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5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5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5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5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5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6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6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6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6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7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7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dt" idx="46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ftr" idx="47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sldNum" idx="48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0378-E03B-4DC6-A3E8-7CA5A7C5A1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02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102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2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2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2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2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2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3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3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3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3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4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4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5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5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dt" idx="49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ftr" idx="50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sldNum" idx="51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630A-1480-4DA2-87F0-79CE2F933F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09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109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9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9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0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0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0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0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0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1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1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1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1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2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2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130" name="PlaceHolder 1"/>
          <p:cNvSpPr>
            <a:spLocks noGrp="1"/>
          </p:cNvSpPr>
          <p:nvPr>
            <p:ph type="dt" idx="52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ftr" idx="53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 type="sldNum" idx="54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98FA-166B-4E94-A1B0-9184DA983E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17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117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17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7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7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7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7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8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8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8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8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9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9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0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0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05" name="PlaceHolder 1"/>
          <p:cNvSpPr>
            <a:spLocks noGrp="1"/>
          </p:cNvSpPr>
          <p:nvPr>
            <p:ph type="dt" idx="55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ftr" idx="56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sldNum" idx="57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834A-A08D-4661-9A86-7B254F83E3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24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124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4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4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5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5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5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6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6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6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6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7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7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80" name="PlaceHolder 1"/>
          <p:cNvSpPr>
            <a:spLocks noGrp="1"/>
          </p:cNvSpPr>
          <p:nvPr>
            <p:ph type="dt" idx="58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ftr" idx="59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sldNum" idx="60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0BCB-97FB-4D28-8CD9-5144FC2C03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32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132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32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2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2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2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2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3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3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3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3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4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4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5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5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355" name="PlaceHolder 1"/>
          <p:cNvSpPr>
            <a:spLocks noGrp="1"/>
          </p:cNvSpPr>
          <p:nvPr>
            <p:ph type="dt" idx="6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ftr" idx="6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sldNum" idx="6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150B-6229-468E-849C-A696E266F5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39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139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39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9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0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0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0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0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0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1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1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1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1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2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2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430" name="PlaceHolder 1"/>
          <p:cNvSpPr>
            <a:spLocks noGrp="1"/>
          </p:cNvSpPr>
          <p:nvPr>
            <p:ph type="dt" idx="6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ftr" idx="6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 type="sldNum" idx="6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02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6044-9B8E-4787-9A6E-0617B055A058}" type="slidenum"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94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95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6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16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110E-2803-49E6-85FA-CAFA57EBF7D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21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1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dt" idx="7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8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911A-A643-4D4E-8BAC-EB7250560E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26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6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6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dt" idx="10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1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2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FEA6-A9B5-4582-A966-A8EEE84EBD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312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313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1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dt" idx="13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ftr" idx="14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5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632A-C225-4B85-A547-FE8AFAC19B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363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364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6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dt" idx="16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17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18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3E7F-EC72-427C-B314-11B1EA13EF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14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15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1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dt" idx="19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20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21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B57E-9EE2-424E-B427-BE1DF6FFD9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spto.gov/main/trademarks.ht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9"/>
          <p:cNvSpPr/>
          <p:nvPr/>
        </p:nvSpPr>
        <p:spPr>
          <a:xfrm>
            <a:off x="68295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E2C8-0FA4-4091-B18C-851A94251FB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9619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ahoma"/>
              </a:rPr>
              <a:t>Capitalization rules</a:t>
            </a:r>
            <a:endParaRPr b="0" lang="en-US" sz="6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1647360" y="3336840"/>
            <a:ext cx="650556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ahoma"/>
              </a:rPr>
              <a:t>Lessons for copyedito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Wingdings"/>
                <a:ea typeface="Wingdings"/>
              </a:rPr>
              <a:t></a:t>
            </a:r>
            <a:endParaRPr b="0" lang="en-US" sz="4800" spc="-1" strike="noStrike">
              <a:solidFill>
                <a:srgbClr val="402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8366"/>
                </a:solidFill>
                <a:latin typeface="Tahoma"/>
              </a:rPr>
              <a:t>By Jeff South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8366"/>
                </a:solidFill>
                <a:latin typeface="Tahoma"/>
              </a:rPr>
              <a:t>VCU School of Mass Communication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572E-1111-40DF-B33D-ABFA1AB078A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Compass point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if it’s a specific region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e is from the Wes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y live in Southside Virginia.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owercase if it’s a direction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he drove south on I-95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ive miles east of the city, the officers found the abandoned car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749A-CE26-4FEE-8DC0-C09496F845D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linton was popular in the east but not in the sout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Clinton was popular in the East but not in the Sout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wind shifted suddenly to the nort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fter leaving Nashville, they headed Wes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After leaving Nashville, they headed wes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C57B-BB0E-4D5F-97D0-E1A88092487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south will rise again, he sai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South will rise again, he sai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tracks run from West to Eas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tracks run from west to eas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t rarely snows that far sout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moved here from the West Coas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5FF4-1C91-4C20-9CB6-6A79AB5F2DE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Awards, honors and priz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specific award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Nobel Priz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mm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scar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Medal of Honor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litzer Priz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isman Trophy 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E453-AD1A-4B38-A17D-D2587D8DD73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won an academy award in 1998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She won an Academy Award in 1998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newspaper received a Pulitzer for international report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has earned numerous awards for teach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Nobel peace prize is awarded each spr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Nobel Peace Prize is awarded ..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666E-84D4-4B82-B15B-C29E567347C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Multiword proper noun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all the words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f they’re part of the formal nam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ermitage High Schoo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James Rive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hesterfield Count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in Stree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E62E-C651-4D18-90A1-6637EC37CD4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Multiword proper noun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spcAft>
                <a:spcPts val="1400"/>
              </a:spcAft>
              <a:buClr>
                <a:srgbClr val="ce9964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 careful with plural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ermitage and Armstrong high school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James and York rive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hesterfield and Powhatan counti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in and Harrison street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25" name="Text Box 4"/>
          <p:cNvSpPr/>
          <p:nvPr/>
        </p:nvSpPr>
        <p:spPr>
          <a:xfrm>
            <a:off x="914400" y="5410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Don’t capitalized the ‘pluralized’ word, such as schools or street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6" name="Oval 5"/>
          <p:cNvSpPr/>
          <p:nvPr/>
        </p:nvSpPr>
        <p:spPr>
          <a:xfrm>
            <a:off x="838080" y="5105520"/>
            <a:ext cx="8001000" cy="990360"/>
          </a:xfrm>
          <a:prstGeom prst="ellipse">
            <a:avLst/>
          </a:prstGeom>
          <a:noFill/>
          <a:ln cap="sq" w="76320">
            <a:solidFill>
              <a:srgbClr val="ce9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3591-46B7-4D1A-96F7-C8FE0C371D4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Multiword proper noun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Grant and Lee fought in the Civil War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is taking History 102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pain is part of the European Unio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ut lowercas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re’s a civil war in Sri Lanka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is studying American history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Morocco is seeking a union with Algeria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8A5B-E6CE-4CFD-B047-FE64CC494E9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fell from the top of the Empire State build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He fell from the top of the Empire State Build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accident occurred at Main and Laurel Street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accident occurred at Main and Laurel street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564F-683F-4AA9-8C74-9F470CF36D4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had no transcript from Middle School when she transferred to Godwin High schoo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She had no transcript from middle school when she transferred to Godwin High Schoo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flew missions in the Korean and Vietnam war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F8BB-6A38-4D1D-87E2-B85E183ABE0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33"/>
                </a:solidFill>
                <a:latin typeface="Tahoma"/>
              </a:rPr>
              <a:t>In general</a:t>
            </a:r>
            <a:endParaRPr b="0" lang="en-US" sz="5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own style’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t’s faster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lame cheap publishers!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hen in doubt, check the AP Stylebook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1874-5479-46CE-83A7-4BE60B6E58B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 took four semesters of History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I took four semesters of history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 flunked Biology 101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professor has taught at the Universities of Tennessee and West Virginia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professor has taught at the universities of Tennessee and West Virginia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B408-C763-49BE-9F29-E8A4D27F467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Government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specific governmental bodie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ngres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nat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ous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Virginia General Assembl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General Assembl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Legislatur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61C8-5745-4DF8-918A-F073DEA851D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Government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owercase nonspecific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nd plural reference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Knesset, Israel’s parliament, …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Virginia and Maryland legislature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AF86-657B-4BDB-81AA-5F750552751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By October, Congress is expected to pass the long-delayed bil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No Legislature has passed the amendmen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No legislature has passed …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new cabinet met with the president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new Cabinet met …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DD1B-F016-47E4-B448-57AD0ED9561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Jesse Helms is retiring from the Senate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North and South Carolina Legislatures will consider regulating pig farm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North and South Carolina legislatures will consider ...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is a member of the Diet, Japan’s parliamen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B69E-1171-4DAA-BBD3-76B2C30A697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Government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‘Capitol’ because it refers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o a specific building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visited the Capitol in Washington, D.C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owercase ‘capital’ - referring to the city where government is headquartered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Richmond is the capital of Virginia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890A-5D68-4B03-AFB8-C70131DFBF0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Government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City Hall and City Council because they’re specific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owercase ‘council’ standing alon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council will vote next week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97AD-9D7B-4C07-A8A9-8FB28732297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capitol dominates the skyline of the nation’s Capita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Capitol dominates the skyline of the nation’s capita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hat is the capital of West Virginia?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protesters marched east to the capito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protesters marched east to the Capito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3552-4686-4294-97E6-06D3A3D4610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Religion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names of religions, religious groups, their deities and their sacred book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God, Allah, Buddha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hristians, Jews, Muslim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Bible, the Torah, the Koran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F399-C776-40EB-9DA6-1582430178D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Religion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ut remember: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‘bible’ can be lowercase, too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AP Stylebook is the reporter’s bible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lways lowercase ‘biblical.’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speech included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ral biblical reference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A217-A8CD-48F0-BB9B-7BFC2EAE638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Proper vs. common noun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roper nouns =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pecific people, places, thing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mmon nouns =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general people, places, thing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DFCC-D79C-4F02-9F27-025CD605B89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Jerry Garcia was almost a god to his devoted fan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Jerusalem is sacred to Jews, Muslims and Christian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talmud is a book of religious and civil law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Talmud is a book ..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330D-4742-4DD3-89B4-D5EF46563BC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Race &amp; ethnicity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the formal names of races and ethnic group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frican American, Caucasian, 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sian, Hispanic, Indian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owercase skin color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black community, white residents, 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whites, the black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EE4A-07B9-4539-BA7B-41AA40C3496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Race &amp; ethnicity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ll people what they want to be called.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Black or African American?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Native American or Indian?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ispanic, Latino or Chicano?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ut first, consider: Is race relevant to the story? If not, don’t use i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3006-63AE-4E36-B2DC-6C7647354F6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 the South, Whites used the poll tax to keep Blacks from vot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In the South, whites used the poll tax to keep blacks from vot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Virginius Dabney, a white editor at the </a:t>
            </a:r>
            <a:r>
              <a:rPr b="0" i="1" lang="en-US" sz="2800" spc="-1" strike="noStrike">
                <a:solidFill>
                  <a:srgbClr val="402000"/>
                </a:solidFill>
                <a:latin typeface="Tahoma"/>
              </a:rPr>
              <a:t>Richmond Times-Dispatch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, won a Pulitzer for opposing the poll tax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76A9-1268-4C26-9A00-EECB639EFED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But the </a:t>
            </a:r>
            <a:r>
              <a:rPr b="0" i="1" lang="en-US" sz="2800" spc="-1" strike="noStrike">
                <a:solidFill>
                  <a:srgbClr val="402000"/>
                </a:solidFill>
                <a:latin typeface="Tahoma"/>
              </a:rPr>
              <a:t>Times-Dispatch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led the campaign against allowing blacks and whites to attend schools together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s a result, many people in the Black Community continue to distrust the white-owned daily.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As a result, many people in the black community continue to distrust the white-owned daily.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A551-4A84-4AFF-ACA4-0A89598AECD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apitalize formal titles directly before a name (‘fused’ to a name), 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not separated by a comma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e speaker is Mayor Tim Kaine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oday, President Bush signed the bill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Lowercase descriptive titles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e concert featured singer Sheryl Crow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e city bought the land from farmer Jerry Crawford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5CF5-D3FE-44DF-BA93-E8957887988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rmal titles denote authority or professional or academic achievement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ope Paul, President Bush, King Henr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escriptive titles includ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ophomore Bill Sims, reporter Jean Williams, first baseman Mark Grac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CC1B-6974-4FF8-88FB-39B7956848A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f a comma separates the title and name, the title is no longer a proper noun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new dean, Steve Gottfredson, will meet with the student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U.S. president, George W. Bush, held a state dinner for Mexican President Vicente Fox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832D-FDB9-4ECA-BEE5-E2CE30A4ABF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ikewise, lowercase titles that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me after a nam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ugene Trani, president of Virginia Commonwealth University, ..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Jeff South, a VCU professor, taught Newswriting last year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Juan Carlos, the king of Spain, is visiting South America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7288-EA46-441A-8D65-9C5A6B87118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ut long titles (more than three words) after a nam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racy Smith, chairwoman of the Henrico County Planning and Zoning Commission, voted against the proposa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Ron Nixon, a deputy secretary of state for Middle Eastern affairs, attended the meet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Slide Number Placeholder 6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ECB7-027A-4915-9837-43982728564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Proper vs. common noun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2000"/>
                </a:solidFill>
                <a:uFillTx/>
                <a:latin typeface="Tahoma"/>
              </a:rPr>
              <a:t>Proper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Tim Kaine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Kenya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Pepsi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Richmond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University </a:t>
            </a:r>
            <a:br>
              <a:rPr sz="3600"/>
            </a:b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of Virginia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2000"/>
                </a:solidFill>
                <a:uFillTx/>
                <a:latin typeface="Tahoma"/>
              </a:rPr>
              <a:t>Common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a man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country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soft drink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a city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university,</a:t>
            </a:r>
            <a:br>
              <a:rPr sz="3600"/>
            </a:b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school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D21D-4321-4FE7-9FED-0490576020B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lways lowercase titles standing alone, without a name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met the president in the White House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pope gave his bless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3E21-D329-44D8-83DE-F507155BDAF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rmal titles are used on first reference only, with the person’s full nam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First reference: Dr. Thomas Alexander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cond reference: Alexander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First reference: Vice President Richard Chene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cond reference: Chene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03D2-83BA-4CB2-ACD8-8F20ACBA8C8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lural formal titles are capitalized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 Washington, Presidents George W. Bush of the United States and Vicente Fox of Mexico are discussing immigratio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committee will be headed by Vice Provosts Cynthia McWilliams and Oscar Garcia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2460-63EA-4C63-8D12-E56674F96F6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on’t capitalize words that modify or describe a formal titl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t VCU, former President Jimmy Carter 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ill speak at a symposium on poverty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group invited retired Gen. Art Hal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A5CF-3ADD-4714-8F5B-6F78FCD887A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P style does not use courtesy titles (Miss, Ms., Mrs., Mr.) unless they are needed to prevent confusion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ut some publications do use courtesy titles. (See </a:t>
            </a:r>
            <a:r>
              <a:rPr b="0" i="1" lang="en-US" sz="3200" spc="-1" strike="noStrike">
                <a:solidFill>
                  <a:srgbClr val="402000"/>
                </a:solidFill>
                <a:latin typeface="Tahoma"/>
              </a:rPr>
              <a:t>The NY Times</a:t>
            </a: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, or </a:t>
            </a:r>
            <a:r>
              <a:rPr b="0" i="1" lang="en-US" sz="3200" spc="-1" strike="noStrike">
                <a:solidFill>
                  <a:srgbClr val="402000"/>
                </a:solidFill>
                <a:latin typeface="Tahoma"/>
              </a:rPr>
              <a:t>Richmond Times-Dispatch</a:t>
            </a: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 obituaries.)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766E-C0AA-463E-8641-D05AEBA1103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 popular Soul Singer, Mary J. Blige, will perform in Richmon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A popular soul singer, Mary J. Blige, will perform in Richmon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pressure is building on president Bus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pressure is building on President Bus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05DC-AE8B-4CDC-8A5E-CC01597BF6E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olice Officer Jessica Jean Cheney died Saturday night in a traffic acciden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 police officer, Jessica Jean Cheney, died Saturday night in a traffic acciden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Jessica Jean Cheney, a police officer, died Saturday night in a traffic acciden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 These are three ways of handling titles. Capitalize only if it’s a formal title ‘fused’ to the person’s name (sentence No. 1)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E29C-9F7F-4C2E-A3EE-4DD577BC695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Organization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an organization’s name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cause it’s a proper noun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ut don’t capitaliz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, an, th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nd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repositions of fewer than 5 letter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4A0F-5E04-409D-84C1-DEBF6C20654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Organization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oy Scout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Greater Richmond Chamber of Commerc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Delta Chi Fraternity (because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‘Fraternity’ is part of the name)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Phi Mu sorority (because ‘sorority’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sn’t officially part of the name)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VCU Board of Visito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ederal Communication Commissio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4AD2-35BF-4E67-8757-8041D61C71F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mnesty Internationa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lack Awakening Choi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merican Society Of Interior Designe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rong. American Society of Interior …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ctivities Programming board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rong. Activities Programming Board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6306-0ED1-4742-BA0C-B5865352763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(nations/Nations) formed an alliance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nations formed an alliance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once lived in (deltaville/Deltaville)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once lived in Deltaville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ne of the (johns/Johns) arrested in the prostitution sting said his name was (john/John) Smit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ne of the johns arrested in the prostitution sting said his name was John Smit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5CD9-337B-4EDF-B4E2-85E12C3D8ED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ederal Bureau Of Investigatio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rong. Federal Bureau of Investigatio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tino Student Alliance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Donkey And Elephant Societ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rong. Donkey and Elephant Societ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VCU Student Government Associatio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B9F3-A75C-46BA-A419-830D9DC18A9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U.S. military branch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when written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n full or shortened form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U.S. Air Forc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Air Forc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U.S. Arm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Arm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U.S. Marine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Marine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0086-6B58-4293-AC7E-5380B6A6A88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U.S. military branch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owercase when these words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on’t mean military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n army of ants took over the picnic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Like an air force bent on destruction, the birds swooped over the crowd and dropped their bomb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7418-F925-4BE8-8FAB-9605F0E945F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Political term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‘party’ when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t is part of a proper noun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Democratic Part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Republican Part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Green and Libertarian partie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is a Democrat and a loyal member of the party. He is a longtime Republican senator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41B4-D997-4A0B-A9C6-5E77A83A390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Political term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owercase a political term when it refers to a form of government or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n ideology (not a political party)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believed in the republican form of government, with elected representative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opposes socialism, but she used to belong to the Socialist Party of America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9119-EC43-4AD1-B42D-5032F8ED2A0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democratic governor appointed a Republican to the Supreme Cour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rong. The Democratic governor appointed a Republican …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he joined the Navy at age 19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e spent his life fighting Communism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rong. Lowercase ‘communism.’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3362-5382-4BFD-B937-8C71DD30868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Green party is collecting signature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rong. The Green Party …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country was founded in 1776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on Democratic ideal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rong. Lowercase ‘democratic’ ideal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 ragged army of refugees fled from the drought-striken region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159E-78B4-4DAB-B3C5-6E8993BBBA3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rademark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y’re specific, so capitalize them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tudents will get free Cokes at clas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 Realtor sold the house in two day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concert is being sponsored by Sprite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he wore an Armani sui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heck the AP Stylebook and </a:t>
            </a:r>
            <a:r>
              <a:rPr b="0" lang="en-US" sz="3200" spc="-1" strike="noStrike" u="sng">
                <a:solidFill>
                  <a:srgbClr val="9a7f32"/>
                </a:solidFill>
                <a:uFillTx/>
                <a:latin typeface="Tahoma"/>
                <a:hlinkClick r:id="rId1"/>
              </a:rPr>
              <a:t>gov’t. offices</a:t>
            </a: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 to see if a brand name is still protected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6F24-05F0-4F3D-96D8-60F045EF5B2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lenching a (kleenex/Kleenex), she tearfully recalled what happened on the beac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lenching a Kleenex, she tearfully recalled what happened on the beac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made a (xerox/Xerox) of the document to prove it existe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made a Xerox of the document to prove it existe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had (jello/Jell-O) for desser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had Jell-O for desser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287D-B455-43A9-AB33-EAEA2039B43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rademark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Unless the trademark name is essential to the story, use the generic word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la instead of Cok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real estate agent instead of Realto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gelatin instead of Jell-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90AE-10E5-424A-BEDC-8E9005201BA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lenching a Kleenex, she tearfully recalled what happened on the beac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lenching a tissue, she tearfully recalled what happened on the beach.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made a Xerox of the document to prove it existe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made a photocopy of the document to prove it existe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was wearing Nikes and Ray-Ban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was wearing running shoes and sunglasse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22:47:03Z</dcterms:created>
  <dc:creator>Jeff C. South</dc:creator>
  <dc:description/>
  <dc:language>en-US</dc:language>
  <cp:lastModifiedBy>Nadia Williams</cp:lastModifiedBy>
  <dcterms:modified xsi:type="dcterms:W3CDTF">2014-02-27T15:18:34Z</dcterms:modified>
  <cp:revision>76</cp:revision>
  <dc:subject/>
  <dc:title>Punctuation Tip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